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13631"/>
        <c:axId val="48651704"/>
      </c:barChart>
      <c:catAx>
        <c:axId val="36113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51704"/>
        <c:crosses val="autoZero"/>
        <c:auto val="1"/>
        <c:lblAlgn val="ctr"/>
        <c:lblOffset val="100"/>
        <c:noMultiLvlLbl val="0"/>
      </c:catAx>
      <c:valAx>
        <c:axId val="48651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13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C8A-18CE-47E9-974C-82CFA08F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62F-9110-4D00-A880-FD5FDAC8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BC7-56B3-44B1-9AE6-6EB15C7A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843-4653-4D5E-9624-2393F170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56B-BED1-4026-BCE7-11FB6119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3F3-47C6-433A-8FB9-D7D0AC5C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D07-95A4-49B9-B875-960C4C14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F47-1F6A-4961-A111-91EA3B01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216-28A5-431F-88D9-B1F0A6F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9A8-367E-4316-B14F-533C67F9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DDB-1C0E-496D-8995-FDFD2350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D14-422A-46FA-8867-8683C340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B7D60-E21A-4648-9A22-10E382277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