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90910"/>
        <c:axId val="10716146"/>
      </c:barChart>
      <c:catAx>
        <c:axId val="70090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16146"/>
        <c:crosses val="autoZero"/>
        <c:auto val="1"/>
        <c:lblAlgn val="ctr"/>
        <c:lblOffset val="100"/>
        <c:noMultiLvlLbl val="0"/>
      </c:catAx>
      <c:valAx>
        <c:axId val="10716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90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B91-2135-4EC9-9706-70793063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6CE-22FC-469A-A250-C46D21ED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C6C-8629-493D-BE1A-767189F5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99B-FFE3-4D95-9734-3100AA90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B17-75DE-433F-84E5-6D920864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FC0-7D1B-4414-A86B-70C10DDC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509-9161-43FE-9EDE-865D9052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D55-D4E7-4C35-BD4D-002510D6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54D-6A17-41E6-AA73-1924C9CC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CCF-1FA3-4515-BD28-1CAF98B2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61F-FBA8-4923-88F5-27D572B7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221-DCC3-4C0E-9F73-E9F7B45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3F774-A234-4109-956A-EE2CCC2B1A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