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0858567"/>
        <c:axId val="44206835"/>
      </c:barChart>
      <c:catAx>
        <c:axId val="7085856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206835"/>
        <c:crosses val="autoZero"/>
        <c:auto val="1"/>
        <c:lblAlgn val="ctr"/>
        <c:lblOffset val="100"/>
        <c:noMultiLvlLbl val="0"/>
      </c:catAx>
      <c:valAx>
        <c:axId val="4420683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85856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85174-63BC-42B6-A0E3-3A906EC79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605E7-48FA-4B7C-96D6-29E9BAC3F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0177E-CC4B-4191-865E-D4BCF0E5B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DF4EF-7328-405D-9783-A39786783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74B8C-A0D2-4DB9-8A8B-EF58523A7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027DB-4B6A-4828-88C1-D7DEF7A70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49F10-2238-401B-8775-3F5F6E455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9298F-A898-4EB2-8CCB-58EFED8A7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7C0A1-1D5E-4B71-8013-15C5A442D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5F3EB-3414-4785-93F0-C79FA4C27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07A93-7844-4D7B-ACFA-A5A1556B8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ED59C-8298-475E-9529-7C24EFFFD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21A827-A7B9-45AA-8AEE-7CE4205F520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