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54472"/>
        <c:axId val="53276589"/>
      </c:barChart>
      <c:catAx>
        <c:axId val="39154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6589"/>
        <c:crosses val="autoZero"/>
        <c:auto val="1"/>
        <c:lblAlgn val="ctr"/>
        <c:lblOffset val="100"/>
        <c:noMultiLvlLbl val="0"/>
      </c:catAx>
      <c:valAx>
        <c:axId val="53276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54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0DF-5062-4808-8782-67FEFCE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B61-8101-46F5-90D2-00F993A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5C2-2093-41EE-AFD9-141DF5A1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2ED-90F3-497C-8444-DE0427B1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211-76E4-441B-B3B7-BA76758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857-821D-43F0-8C5C-9B6E7AD8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065-BCEC-48FF-B915-BB75541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579-DEC7-40CB-9657-2550137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94A-5C2F-4777-AF67-A08A909B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9E5-CE2C-41E1-8B01-7E4E9B8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9AD-11BF-4402-ABAE-57C35FD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DFA-8773-49BA-8031-B308E7A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9C52-FE2F-469C-A35E-DFE27FD01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