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25793"/>
        <c:axId val="13107592"/>
      </c:barChart>
      <c:catAx>
        <c:axId val="63925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07592"/>
        <c:crosses val="autoZero"/>
        <c:auto val="1"/>
        <c:lblAlgn val="ctr"/>
        <c:lblOffset val="100"/>
        <c:noMultiLvlLbl val="0"/>
      </c:catAx>
      <c:valAx>
        <c:axId val="13107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25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988-7C37-4D84-A0FF-59710CC6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B05-5E56-4397-BEC5-416D75A3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840-D32F-45EB-A582-ED4AFD44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8A9-CE06-4B9C-84BE-B92C3D0D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D55-C2C6-44DC-869A-AEE008B8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132-470E-4E10-BEC9-E5813125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794-E36A-4D22-9526-E02006FF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674-11D7-4211-99ED-2744305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05B-A05E-4E1E-AACE-EEFD9AB1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9D0-893A-4364-93A7-A3C13112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417-C449-4829-98DE-70EED667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199-DAC5-421A-8574-F63E7844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D9934-9849-41C5-B366-2D7CFE0AAD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