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165953"/>
        <c:axId val="36564355"/>
      </c:barChart>
      <c:catAx>
        <c:axId val="491659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64355"/>
        <c:crosses val="autoZero"/>
        <c:auto val="1"/>
        <c:lblAlgn val="ctr"/>
        <c:lblOffset val="100"/>
        <c:noMultiLvlLbl val="0"/>
      </c:catAx>
      <c:valAx>
        <c:axId val="365643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659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6AD-F271-45A3-99CD-BFAB3068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061E-2BD7-4F1F-991B-A3F96C16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702D-5ECA-4D9D-AAA0-37FC4499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E25F-5B2F-465D-ADA9-26DE9EA7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B2FB-62DB-4D53-8D16-E48D56F5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61EC-FC65-4A24-91A1-17F283DE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1609-C7D4-45DB-BF72-5911E1A8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6DA0-9612-4F01-8A6C-317C96A1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0704-6CD8-4F65-9F79-4B3A153E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8D44-B162-4691-8549-14D4137A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A91B-8525-468E-9BBA-3EF3D52E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A908-B66B-4420-B131-ED544EF6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B7932-08D2-406A-A12A-0AFADCAC15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