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3759"/>
        <c:axId val="74463475"/>
      </c:barChart>
      <c:catAx>
        <c:axId val="4403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63475"/>
        <c:crosses val="autoZero"/>
        <c:auto val="1"/>
        <c:lblAlgn val="ctr"/>
        <c:lblOffset val="100"/>
        <c:noMultiLvlLbl val="0"/>
      </c:catAx>
      <c:valAx>
        <c:axId val="74463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CCF-440A-4741-B54E-C312D8D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601-6BA2-471C-B59D-6E8579B9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15D-86A8-4126-AD35-FDA76380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25C-857A-438D-8BD1-BF9BBE19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B5E-E285-43CF-A210-420E237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29F-7E8E-45A1-929B-AA80A69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C79-CDC4-4105-8B10-F31CD347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B38-09CC-4145-9DA7-1606BAF1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0BF-608D-4165-B40B-6C024F67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4AD-BF5F-4105-97D4-E0A37CF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64C-5D32-4C39-9557-806669A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927-0CB6-4862-B510-2838E59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7342F-C55A-4840-A55D-5DEDCB276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