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3328"/>
        <c:axId val="93851855"/>
      </c:barChart>
      <c:catAx>
        <c:axId val="2363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51855"/>
        <c:crosses val="autoZero"/>
        <c:auto val="1"/>
        <c:lblAlgn val="ctr"/>
        <c:lblOffset val="100"/>
        <c:noMultiLvlLbl val="0"/>
      </c:catAx>
      <c:valAx>
        <c:axId val="93851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3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68A-54B3-4244-B5C8-92F2B37A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BBBD-B968-4228-B3FA-2CF252C3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0565-6AB4-4846-9D1B-E76EEF77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6B9-0A3E-4A68-ABCB-8C5E8B65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EFDE-CCBC-4354-B16A-20920A77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E73-8534-4E37-9C9C-21FBB2B7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F41-1944-48BA-A3C9-A948C4C4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2FB9-5F70-4057-BB6A-130575B8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36E-1CA8-4873-B2E0-F68BE56E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C8A-C2CE-48EB-9DDB-E8E71A43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A68-EE8B-4E73-B2D0-B3C75793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8DB1-B2B1-44C3-962E-11CA20B6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8AEC4-99F0-4315-86CA-113E1F4278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