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026557"/>
        <c:axId val="50333696"/>
      </c:barChart>
      <c:catAx>
        <c:axId val="700265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33696"/>
        <c:crosses val="autoZero"/>
        <c:auto val="1"/>
        <c:lblAlgn val="ctr"/>
        <c:lblOffset val="100"/>
        <c:noMultiLvlLbl val="0"/>
      </c:catAx>
      <c:valAx>
        <c:axId val="503336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0265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2E8E-897A-45E0-9DD1-245E197CC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29E8-3EE0-487E-8515-A1712D3C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D4DF-E97F-4679-B5C1-700A0FDA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B88D-CCD2-4913-AF70-0BC046137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06DB-C7EE-4657-8C4E-B2715944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38C-14DA-416A-B9DD-3A7F304A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E7A-A302-4806-B99B-0EB86AE7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F3E-4E54-4411-A726-44FED3F3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AF8-2F62-44CF-BAFC-730CAD34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717-BCD7-4769-B111-D4142B46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BEF-88E2-4400-8509-C0D7D15B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AA2-A558-4284-92D7-848EBD5F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0F40EC-2D62-44F1-A1A8-C8E8270772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