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47264"/>
        <c:axId val="21953413"/>
      </c:barChart>
      <c:catAx>
        <c:axId val="57347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53413"/>
        <c:crosses val="autoZero"/>
        <c:auto val="1"/>
        <c:lblAlgn val="ctr"/>
        <c:lblOffset val="100"/>
        <c:noMultiLvlLbl val="0"/>
      </c:catAx>
      <c:valAx>
        <c:axId val="21953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47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D9E-282B-4F7B-9FF2-076D6C42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E3E-0930-43A6-BAFA-55AB0BF0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90A-BE68-49E8-9446-5CCC0779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B15-A08E-456B-8283-09239656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D9D-CAD3-4F11-A5C4-9980177D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674-EF0C-4599-BE5C-8A23207E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53F-8E7B-452C-852F-37045ABB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86E-657A-4E13-9120-AD401463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F1B-71BE-48F9-9B66-9B7649AD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01B-0650-49BB-8518-FAA0E54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6C7-87D6-42AD-B48C-5DB56E90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D10-C54A-46F8-A296-31149D0C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82ECD-72E7-4BB8-8E85-C4D7031B47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