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097472"/>
        <c:axId val="18941206"/>
      </c:barChart>
      <c:catAx>
        <c:axId val="34097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41206"/>
        <c:crosses val="autoZero"/>
        <c:auto val="1"/>
        <c:lblAlgn val="ctr"/>
        <c:lblOffset val="100"/>
        <c:noMultiLvlLbl val="0"/>
      </c:catAx>
      <c:valAx>
        <c:axId val="18941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97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AFE-0802-4EC1-8462-CA07E538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B85-5310-4C89-8208-59F397F9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6C9-9B21-4132-AD5F-D38EF9ED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9C6-81EC-4CD3-B0EF-14FC3A21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A40-60B6-40E4-B578-11351D2A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113-A0A9-48D0-95B6-EBB84E65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188-0C67-491E-B280-096DA729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D25-F353-4A5F-88FB-77F32A6B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26A-20D1-46F7-935A-991CB4BB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082-6430-4720-A667-FD2A181F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78E-870F-4A70-8FAD-8FF2FB2E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C71-BAC7-46FB-8F65-184B0D2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2CBF0-13B3-48D4-9D15-5235858815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