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6159"/>
        <c:axId val="12588460"/>
      </c:barChart>
      <c:catAx>
        <c:axId val="88046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88460"/>
        <c:crosses val="autoZero"/>
        <c:auto val="1"/>
        <c:lblAlgn val="ctr"/>
        <c:lblOffset val="100"/>
        <c:noMultiLvlLbl val="0"/>
      </c:catAx>
      <c:valAx>
        <c:axId val="12588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6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A4A-FFF8-408C-B3A1-B4AEE25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E7C-A14D-4380-8CC2-EEC9D2D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A46-8FB4-46BE-957B-F4479DB9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DCC-FDA1-4EB2-8D84-154BEC01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79C-F23B-4C2F-97E0-A7305D7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84C-9393-417C-B237-B0F9FE41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13F-93C8-4541-92EA-7E989ADF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5C2-A944-4C9F-89A0-A334AC9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3B3-D8D2-484A-99D0-109E99A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922-7B96-40D2-8E2A-829CEF1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22A-603B-448F-9442-A0B3B9E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EAA-D973-45A6-9F88-0AE330E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B77F-5BD6-4E09-BACD-E4BF147F5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