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494165"/>
        <c:axId val="12339789"/>
      </c:barChart>
      <c:catAx>
        <c:axId val="71494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339789"/>
        <c:crosses val="autoZero"/>
        <c:auto val="1"/>
        <c:lblAlgn val="ctr"/>
        <c:lblOffset val="100"/>
        <c:noMultiLvlLbl val="0"/>
      </c:catAx>
      <c:valAx>
        <c:axId val="12339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494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01E3-236E-4C2F-B472-E7934037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413-BAFE-4008-AAE9-424C03E4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D72D-E6C5-4492-8AF0-A59458B6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69BF-475B-471B-B2DD-6EAA953ED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BC97-C8EA-47B6-8FA9-D884728D9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6DA0-AD1A-4732-A0A3-95FD893B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335B-5CBD-45DA-A803-CAD0716C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9AF3-5552-4ECD-81AF-19601910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CC37-1C03-4DAD-AB13-FBD16E7C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122D-7B49-4C0F-909D-11123A8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6897-01EB-43A0-8940-07427B0D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E3D-FEE4-440E-9A43-D3F672062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78465-D204-4CB0-BB75-573DEC4C5D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