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84831"/>
        <c:axId val="93344008"/>
      </c:barChart>
      <c:catAx>
        <c:axId val="11984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44008"/>
        <c:crosses val="autoZero"/>
        <c:auto val="1"/>
        <c:lblAlgn val="ctr"/>
        <c:lblOffset val="100"/>
        <c:noMultiLvlLbl val="0"/>
      </c:catAx>
      <c:valAx>
        <c:axId val="93344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84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123-D050-4409-870B-3AAA7701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051-4C97-4923-B2F5-8C716DC1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6C8-C01D-4450-B3CC-30628EFA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1E4-BECB-4C60-B874-98846B8C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059-D804-427D-9B1B-C7092473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4C1-CC56-48E8-A2AE-49B7661C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A10-11AB-4CEB-B6A8-291BD2A4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7B2B-0A6B-4CDE-9C55-502EFDA5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CB5-133D-44F0-8567-095CE47D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EBC-ECC9-4F89-99D1-5E976C47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0F5A-FBE4-4F82-9107-8CA6C0B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B73-8886-4932-BB6B-110EF88C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AE5A6-9084-4983-95F2-9CCE137A4C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