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28421"/>
        <c:axId val="5653521"/>
      </c:barChart>
      <c:catAx>
        <c:axId val="18128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3521"/>
        <c:crosses val="autoZero"/>
        <c:auto val="1"/>
        <c:lblAlgn val="ctr"/>
        <c:lblOffset val="100"/>
        <c:noMultiLvlLbl val="0"/>
      </c:catAx>
      <c:valAx>
        <c:axId val="5653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28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AD8-A2FF-49D5-9738-99D9386E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AB38-5E16-4845-AECD-23C3A9EC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945-A6C9-4723-94D3-B2905D01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D83-2778-435F-BBEC-4B12E314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DC4-164B-4736-82E7-F6739517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5C1-FB49-47E4-B093-03450E53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7DA-22EF-4ACE-A988-73DAF8A4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326-38C2-4362-A1F8-F1352A54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485-DD7C-43A5-BB7C-068C571F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4DE7-8E9F-43AD-A5F0-30E76346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17BF-6890-4C61-B8C2-255F77E5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DC23-C9F9-454E-9E4C-6DE02809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22654-E294-4A5C-A7F8-EA0E666DA6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