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5979"/>
        <c:axId val="69910027"/>
      </c:barChart>
      <c:catAx>
        <c:axId val="7695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0027"/>
        <c:crosses val="autoZero"/>
        <c:auto val="1"/>
        <c:lblAlgn val="ctr"/>
        <c:lblOffset val="100"/>
        <c:noMultiLvlLbl val="0"/>
      </c:catAx>
      <c:valAx>
        <c:axId val="69910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5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E24-F355-4EDF-AFBC-A0BC372E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056-509B-4D93-9730-D8CCE219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B4C-D6A5-4916-8BAB-DEDD1D4D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AFD-E3B9-4A89-ACF3-7F5236AE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E4B-2252-4957-9F57-8916F781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48F-C9EC-4179-9A7F-6826C44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954-9A0C-4DD7-8225-F20AFBC3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ECB-9E89-4C10-8B9E-01AFF23A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CD5-DD4D-44CC-929F-0418F1B7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386-6CEF-4139-A39A-9A140A8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5D4-F7FB-40F0-B32C-BADEA986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8B6-3850-4E54-AFD8-B0813A95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5946-87B2-477B-AB67-A24E6E9712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