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44935"/>
        <c:axId val="91539222"/>
      </c:barChart>
      <c:catAx>
        <c:axId val="37344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39222"/>
        <c:crosses val="autoZero"/>
        <c:auto val="1"/>
        <c:lblAlgn val="ctr"/>
        <c:lblOffset val="100"/>
        <c:noMultiLvlLbl val="0"/>
      </c:catAx>
      <c:valAx>
        <c:axId val="9153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44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C11-F21F-42AA-B9EC-0828A50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A71-BABD-4EE6-80F9-881B271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1D3-B3FF-48D4-8B5C-3D090C27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84C-61DA-45CC-9192-1F78771A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846-EC10-4F97-BC36-F2BE029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AE2-CE44-4E15-A7A1-4F68D822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889-C68F-4447-92BA-66872E2D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BCE-AAF8-4867-9B1C-ED88E11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835-C0E3-4161-AD9C-BEC8F11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8AC-060E-4440-8407-0272685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95E-E8EC-46C7-BEC5-7FA6DC4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D38-AE9D-4EC4-B0DF-2B97E17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0DDAC-1B5E-457B-8355-88CD171335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