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93358"/>
        <c:axId val="35931290"/>
      </c:barChart>
      <c:catAx>
        <c:axId val="87293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31290"/>
        <c:crosses val="autoZero"/>
        <c:auto val="1"/>
        <c:lblAlgn val="ctr"/>
        <c:lblOffset val="100"/>
        <c:noMultiLvlLbl val="0"/>
      </c:catAx>
      <c:valAx>
        <c:axId val="35931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3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653-A4DF-4827-9E9B-B2DA122A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021-752F-40A7-8CBA-8DDCDB4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579-B38F-4905-995E-B4AA2726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296-09C0-4E7B-AC22-D51D4E32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603-1328-410C-A77F-0497FF3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C0D-5E99-4F17-881F-02A61476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2F8-1FC4-43A7-B5E4-2CBF584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E25-2CF5-40A3-822D-BDB95FD3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52A-AE4B-4BF3-82ED-2BEACEF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10D-F2CF-4DF5-A9B7-55BEB71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D8E-7A18-4E98-9681-25DEC07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61F-71AB-490F-A56C-D622D08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F9CB0-BD08-49C4-84A4-B8B66DA579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