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87605"/>
        <c:axId val="24367561"/>
      </c:barChart>
      <c:catAx>
        <c:axId val="51887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67561"/>
        <c:crosses val="autoZero"/>
        <c:auto val="1"/>
        <c:lblAlgn val="ctr"/>
        <c:lblOffset val="100"/>
        <c:noMultiLvlLbl val="0"/>
      </c:catAx>
      <c:valAx>
        <c:axId val="24367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87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B9B-E7C4-4119-9903-CEBADC1B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323-302E-4AF4-A9BC-38C86E3A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009-8D0A-4B8F-A0EF-BD1BDFA6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914-BD30-41D4-9D1F-1F3C2A93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4D9-51EB-449B-8F77-F5FC455F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21A-EDFC-4D9A-A06B-A607FC62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DB1-F724-4C80-9854-66573A3B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29F-FDAE-4582-ADCB-4D0855CC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B44-7C9E-4E91-91C4-6E3153FF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073-FE25-402B-8F11-A03632E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F3E-8449-4147-B154-CC259D57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6D2-8679-4E5F-AFD0-F8A91667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4F227-A956-4E36-9902-53D0E74ACF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