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57079"/>
        <c:axId val="58989874"/>
      </c:barChart>
      <c:catAx>
        <c:axId val="37257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89874"/>
        <c:crosses val="autoZero"/>
        <c:auto val="1"/>
        <c:lblAlgn val="ctr"/>
        <c:lblOffset val="100"/>
        <c:noMultiLvlLbl val="0"/>
      </c:catAx>
      <c:valAx>
        <c:axId val="58989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57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DC3-6FC5-4B92-B439-9A9BF9A2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0D8-D82F-4718-B81A-2B50DD7D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B1A-EB8D-4303-95EE-D41F13A6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38D-0B68-498A-AE90-BBB466DA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147B-2A49-4669-8A15-75862A16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107-0C06-4823-B66E-D2E6F62A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AB2-9DFD-4AF9-8106-03870481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5B5-9EB1-4E1A-9F42-65770FC8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FF2-C079-416B-AAB0-7460E579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172-CD27-41D3-BF74-C558072A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18F-6738-43D8-A2E4-EE1A0B7D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079-3858-4732-9D83-C5DD9480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2736B-B403-4258-B7C1-D8D17B0813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