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3855"/>
        <c:axId val="58968083"/>
      </c:barChart>
      <c:catAx>
        <c:axId val="52393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8083"/>
        <c:crosses val="autoZero"/>
        <c:auto val="1"/>
        <c:lblAlgn val="ctr"/>
        <c:lblOffset val="100"/>
        <c:noMultiLvlLbl val="0"/>
      </c:catAx>
      <c:valAx>
        <c:axId val="58968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3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C33-A7B7-4692-84E6-D8486043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568-BAE8-4CE6-82E5-87CC41E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990-545E-4B62-A964-8E51E271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588-CD7F-4FE8-B83F-FF2A1B65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CBB-D3B5-4A5B-8BF8-EB23F4CA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F39-B996-44C1-BF31-CFB7424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F04-D9BF-468D-87B0-C488169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3FD-0AFA-483F-8B98-1BFEE3AF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A31-2106-4F14-B506-CD13FCB1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16B-9410-46C7-8890-A469760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94B-A581-4BD9-9CF5-5417111C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E34-8FA6-44B5-BFA4-CED7CE4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F489-4EF8-4089-AF41-12E0436A8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