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39630"/>
        <c:axId val="51023736"/>
      </c:barChart>
      <c:catAx>
        <c:axId val="17639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23736"/>
        <c:crosses val="autoZero"/>
        <c:auto val="1"/>
        <c:lblAlgn val="ctr"/>
        <c:lblOffset val="100"/>
        <c:noMultiLvlLbl val="0"/>
      </c:catAx>
      <c:valAx>
        <c:axId val="51023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39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2D0-1409-45F3-AE0A-54FA8F00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6B4C-6014-47A7-810F-AD4934E0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63F-6C31-4003-89B1-E6D8D009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CD6-44EC-4970-A0BC-F95E3EFD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FD7-99B6-401A-9BC4-9F3EF6FA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B08E-D678-4F54-9BF9-022C652D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7F3-A935-486E-8BF2-7C1577AD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DD3-F049-4457-AEDA-B06C5AB9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5AA2-B894-46DA-9F6C-4F4DDBC7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0C85-07AC-40AD-B91E-D673B019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1D7-2AAA-4F89-8B22-676C4F00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DB3-6D8C-4933-A31D-D57057C4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1C6AB-90A0-469C-9AFA-5CC6A4EA75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