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2311"/>
        <c:axId val="66111845"/>
      </c:barChart>
      <c:catAx>
        <c:axId val="6182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1845"/>
        <c:crosses val="autoZero"/>
        <c:auto val="1"/>
        <c:lblAlgn val="ctr"/>
        <c:lblOffset val="100"/>
        <c:noMultiLvlLbl val="0"/>
      </c:catAx>
      <c:valAx>
        <c:axId val="66111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411-8B30-41EF-A203-2FDA0156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4DA-F885-4756-AE2A-00170CC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C0E-318F-4191-9F25-3275C8A8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084-1596-4139-9074-7C9CDCAC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B68-308A-40E3-AD16-C1DE799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063-8F07-45A8-8290-1310BC92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745-9EB0-487F-8A29-36C23464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F0C-84E5-48DE-8D6E-E253FDF7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9FD-3957-4946-84EB-DB88887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42D-2B60-4210-B90E-1F8F407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C75-8436-42A5-91DD-CADFC44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C19-AA79-4AFC-AB83-3F42061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11E23-5231-4683-A999-D4BDE0B68D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