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0069"/>
        <c:axId val="83585893"/>
      </c:barChart>
      <c:catAx>
        <c:axId val="93200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85893"/>
        <c:crosses val="autoZero"/>
        <c:auto val="1"/>
        <c:lblAlgn val="ctr"/>
        <c:lblOffset val="100"/>
        <c:noMultiLvlLbl val="0"/>
      </c:catAx>
      <c:valAx>
        <c:axId val="83585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00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01B-8672-4E24-992B-B0495F43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13E-C6B4-454D-AC1E-141B2D18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2C2-D167-49FA-BE1B-46F298DA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7EB-1797-4068-8782-508B19AD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68D-BCBE-42FB-8B2F-21A80CCB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409F-C869-4C7A-B9BE-765C3715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530-841C-4FB3-93A0-96848402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522-A913-4C99-8640-08826AF6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3FD-0A3B-4E6B-B392-550E9B8C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8B6-AFA5-483E-BBAF-840600D6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3EC-90F8-4E44-8AE2-2754F01E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50D-0853-4151-90E4-23784DC7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028FE-FF17-4F84-ABD8-C51E0E9541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