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10734"/>
        <c:axId val="53488988"/>
      </c:barChart>
      <c:catAx>
        <c:axId val="54610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88988"/>
        <c:crosses val="autoZero"/>
        <c:auto val="1"/>
        <c:lblAlgn val="ctr"/>
        <c:lblOffset val="100"/>
        <c:noMultiLvlLbl val="0"/>
      </c:catAx>
      <c:valAx>
        <c:axId val="53488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10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B2F-0996-4769-966B-A3117EDF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523-A313-4E0F-8A59-3B62DD27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9A2-50EE-4453-AF13-B500CC1A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BD5-8255-4D92-98E0-64A40A75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102-DA6F-4E1A-B675-10F0151D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3F0-D10C-43BA-8BA6-F3D90887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255-0130-45BA-B2F1-E4788E5A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A4B-A776-4B21-9EF7-85CD9AA5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FF4-93D1-4797-B769-6A5C94C6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050-1127-4E56-BDB0-26F017FA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AB7-4820-42B5-9244-DE155813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AAC-F460-4BEE-A50D-E902DD50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B0C1F-2FDB-45A8-AAD5-688FC09426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