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219367"/>
        <c:axId val="56524495"/>
      </c:barChart>
      <c:catAx>
        <c:axId val="821936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524495"/>
        <c:crosses val="autoZero"/>
        <c:auto val="1"/>
        <c:lblAlgn val="ctr"/>
        <c:lblOffset val="100"/>
        <c:noMultiLvlLbl val="0"/>
      </c:catAx>
      <c:valAx>
        <c:axId val="5652449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1936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6A3FB-AD6D-4C5A-BA58-64BFCCD3A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331BC-B493-4376-9748-7711907C2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85E93-2EB6-4B1D-A8E3-00EC5B7D9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19B84-89F7-44F1-A932-F3986F021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C594A-E125-4B25-8E98-115A380E5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386C5-9B94-40E2-A085-4EE344B07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DFC49-3936-4623-8839-F1D7A402F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3EA55-10EC-4340-BB0F-9298F8577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5749C-0848-4EBD-ACC0-4B8AC5F96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4DE05-4369-463D-AFC6-51F5AD43B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CEA69-45DC-40AB-99E9-463FFFBE0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0A4F9-66CE-4CB3-902F-BB0CD3262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E6308C-C90F-4CF5-9AC4-7F89CD78C03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