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52203"/>
        <c:axId val="35539281"/>
      </c:barChart>
      <c:catAx>
        <c:axId val="62152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39281"/>
        <c:crosses val="autoZero"/>
        <c:auto val="1"/>
        <c:lblAlgn val="ctr"/>
        <c:lblOffset val="100"/>
        <c:noMultiLvlLbl val="0"/>
      </c:catAx>
      <c:valAx>
        <c:axId val="35539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2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21C-2789-4FAB-BCAC-B9404BB9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CB8-4D49-4782-91FC-3EA62709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322-051D-4E2E-B4AD-F78A4875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327-2B5D-4FDE-8637-24D8ABCC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2C1-8ABB-456F-AA8A-825F8DB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703-6B31-4E18-8570-80B7CC7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DA0-6FBD-49D5-B6CF-C8C51FC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6A0-20C8-49D2-8177-DA7DEFB7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5B3-0EF6-4132-8462-F3EE5E7F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898-ADAD-4513-9A5B-F8F03C9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71F-FBFF-4A88-8BE4-D7FCD1B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91A-3148-4737-8C0F-CF55AC59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35BC1-C304-4FE7-8171-B16ED3192D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