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7154"/>
        <c:axId val="91585122"/>
      </c:barChart>
      <c:catAx>
        <c:axId val="7997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85122"/>
        <c:crosses val="autoZero"/>
        <c:auto val="1"/>
        <c:lblAlgn val="ctr"/>
        <c:lblOffset val="100"/>
        <c:noMultiLvlLbl val="0"/>
      </c:catAx>
      <c:valAx>
        <c:axId val="91585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7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F83-9F8A-4351-898F-7F683004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C28-B7A3-4689-81EE-A26C1AC1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13C-F6C6-4914-8AA0-49D123FA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262-B204-4CCE-BC0D-58086E6E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214-CEBD-4971-9FB2-1F4E4FFA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C09-DCCB-434B-90F6-4C412DF4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606-66E1-45DA-B5F3-9F641F22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32A-51B9-40B6-9A06-491B9CE7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E40-A595-4BF5-A98B-8AC60C84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202-B9CE-4C9F-A30F-3C0ADAE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BBF-06AD-4719-A2CD-68C6D400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566-B529-4FF9-88E4-D9FB141D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06C16-AAD1-4896-972D-EA9F7B9EBB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