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12054"/>
        <c:axId val="7624063"/>
      </c:barChart>
      <c:catAx>
        <c:axId val="91412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4063"/>
        <c:crosses val="autoZero"/>
        <c:auto val="1"/>
        <c:lblAlgn val="ctr"/>
        <c:lblOffset val="100"/>
        <c:noMultiLvlLbl val="0"/>
      </c:catAx>
      <c:valAx>
        <c:axId val="7624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12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A77-1DCF-421A-A6D8-0FA42DD5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02E-B437-4912-B114-F0B3600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35E-CC47-40E9-BCCE-9FEBED62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12D-F89D-464F-BFEA-603EAF3A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540-4397-4DEC-9C1E-E83B31B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F18-3739-4F8E-90A7-24D31C2E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D20-DDE0-4977-85F6-615F8F27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5D0-37A3-43AC-A16F-992BA0A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4F4-69EE-4AD7-B1E0-098B637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6FE-C6B8-440A-9EED-645C079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F2C-725B-48CE-BC95-B07D189E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6B2-D673-4DBD-B233-DA1E4D76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5B879-134F-4CC6-A8EA-E832D0E1D9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