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16916"/>
        <c:axId val="20353361"/>
      </c:barChart>
      <c:catAx>
        <c:axId val="19616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53361"/>
        <c:crosses val="autoZero"/>
        <c:auto val="1"/>
        <c:lblAlgn val="ctr"/>
        <c:lblOffset val="100"/>
        <c:noMultiLvlLbl val="0"/>
      </c:catAx>
      <c:valAx>
        <c:axId val="20353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16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CEA-83B1-42EA-80C5-D9B00C14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0D89-1C95-4B60-B9E2-86E9E727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EBC8-1A7A-4E21-8D70-5043665F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CDC-1FA2-4F23-8985-8B5350C9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831F-7C36-4ACF-AE80-F679E478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A53-57AE-444D-B070-8AF9CC89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857-385F-4FA4-BCB8-38905505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8DE-DE1A-4917-8CFC-2A535B7B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C47-CDA9-4511-96B6-39B45A17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1E2-FCE1-48DA-9C16-35071E2D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674-80B9-4BF3-A72E-E1043E95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ABC-F0CD-4D5C-9EA9-57750DC1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A44C7-1B4B-449E-8685-663CCC5CDC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