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18805"/>
        <c:axId val="62715306"/>
      </c:barChart>
      <c:catAx>
        <c:axId val="22318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15306"/>
        <c:crosses val="autoZero"/>
        <c:auto val="1"/>
        <c:lblAlgn val="ctr"/>
        <c:lblOffset val="100"/>
        <c:noMultiLvlLbl val="0"/>
      </c:catAx>
      <c:valAx>
        <c:axId val="62715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18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00D-6EF4-4BA3-B162-19932778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FE0-1A40-4B28-90F8-346545AA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42B-5726-4D54-8E8B-B83A6BBE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9B0-DD68-47EB-AF08-74613B33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58E-11C8-4D94-90BE-7F893290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780-1BE1-4B19-A003-CBA92985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382-752E-4B3F-A1A6-9D2E4DB3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07B3-6824-41D2-9703-266E4929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595-7968-4CCD-B7EA-B9E1B3E5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3B5B-AB52-4271-8879-E71B1AB0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8E6-C913-44A7-8F52-D62606E7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00ED-DA7E-4705-A3F2-FAC178B6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F3225-7BEF-4367-824F-8322726ECC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