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40371"/>
        <c:axId val="13945457"/>
      </c:barChart>
      <c:catAx>
        <c:axId val="68403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45457"/>
        <c:crosses val="autoZero"/>
        <c:auto val="1"/>
        <c:lblAlgn val="ctr"/>
        <c:lblOffset val="100"/>
        <c:noMultiLvlLbl val="0"/>
      </c:catAx>
      <c:valAx>
        <c:axId val="139454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03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6934-F2AE-4583-9928-1918833C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B0EE-9163-46F5-80DD-401F6FE9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B2C0-CD25-4FB8-AC3A-24D458436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8DE5-2D35-41A8-89CE-20E27E0B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35D6-F011-43DA-AFBB-382611E5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5384-482B-441B-ABE7-359F93EF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AADA-2127-4A68-B798-C0843483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7BF3-D2BA-46FB-9D4A-90E11FE8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EE22-D0B4-4A1D-BDCF-91912566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4C06-7D67-475B-AF21-CA111506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F43D-18C0-432E-9E3F-E784B1B5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5DDE-63AB-441B-B3F8-CE5F5CFE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1C513-31FF-4093-89AE-CA153FAD35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