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16353"/>
        <c:axId val="7176985"/>
      </c:barChart>
      <c:catAx>
        <c:axId val="58016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985"/>
        <c:crosses val="autoZero"/>
        <c:auto val="1"/>
        <c:lblAlgn val="ctr"/>
        <c:lblOffset val="100"/>
        <c:noMultiLvlLbl val="0"/>
      </c:catAx>
      <c:valAx>
        <c:axId val="7176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6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F60-F255-4F9C-8D37-A0D61C4F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F1E-287F-4FF5-B9DD-85CA44D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8E7-A5DD-4A1A-B973-14FB0886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3D7-5526-4C6F-AA13-02C6D6B2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7AA-6899-4D9E-92E8-F862C32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C10-2E2E-4D4E-AB30-FEDB1A8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B3C-2A5A-45D4-89A1-E8D2D1D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B13-14E7-4327-80C7-A3EC0CB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12C-0014-4782-9020-6257B0C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9AB-E1BE-4B99-A6CF-388F321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D98-7632-4081-BFA9-9BCAE2EB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AC2-E453-470B-BAC2-5BD4EAE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A5823-085C-4CFA-A4C0-8AB53162C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