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27412"/>
        <c:axId val="59903655"/>
      </c:barChart>
      <c:catAx>
        <c:axId val="13027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3655"/>
        <c:crosses val="autoZero"/>
        <c:auto val="1"/>
        <c:lblAlgn val="ctr"/>
        <c:lblOffset val="100"/>
        <c:noMultiLvlLbl val="0"/>
      </c:catAx>
      <c:valAx>
        <c:axId val="59903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27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499-F00C-4CB7-8C82-4E9C1562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CF5-F3D0-42AC-BB96-F887CA8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B58-BA20-4FAC-8C3C-8F952DC4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309-1E53-4201-B8B2-B050AF27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9C2-4892-480E-B8B6-F891319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4EE-7F0F-4646-814D-C991F1F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7B9-7054-4859-8905-69FAB4F1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D83-1E1F-4416-A062-57590B0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989-AE0D-4EF0-A492-19595DB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C12-1B7F-4444-936A-8760CE99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77F-94AD-4025-B658-37B0B63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F48-53A4-4E99-831C-1E9B336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044D4-270E-4FF1-9634-092B0AE349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