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91846"/>
        <c:axId val="76409061"/>
      </c:barChart>
      <c:catAx>
        <c:axId val="25918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09061"/>
        <c:crosses val="autoZero"/>
        <c:auto val="1"/>
        <c:lblAlgn val="ctr"/>
        <c:lblOffset val="100"/>
        <c:noMultiLvlLbl val="0"/>
      </c:catAx>
      <c:valAx>
        <c:axId val="764090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18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D016-C025-4373-98C0-85AD1EB93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D1E3-6507-4F15-AD56-70DCD5DA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5E4D-A5A7-410E-AF86-8C376999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0E9E-5A4E-4118-AE1B-AC4B18998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5C49-6258-48E9-BE01-E0449C0C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A39A-9FEF-4ECE-A7D5-D50F5DCE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FD25-2EFE-423F-AFBE-D059F43F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0F4A-996B-4A8A-9E65-F9575A57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5B74-42DB-499A-A603-6FC8740A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158C-F44C-46FA-8CF9-281FB185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9AA3-2A5B-4A5E-9D0B-5BA1187A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D7E4-A37E-4040-888E-0346727A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D5A46-0660-4946-BC57-2E8FF523A4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