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2112"/>
        <c:axId val="49990653"/>
      </c:barChart>
      <c:catAx>
        <c:axId val="54521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90653"/>
        <c:crosses val="autoZero"/>
        <c:auto val="1"/>
        <c:lblAlgn val="ctr"/>
        <c:lblOffset val="100"/>
        <c:noMultiLvlLbl val="0"/>
      </c:catAx>
      <c:valAx>
        <c:axId val="499906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21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A55F-47CD-44C3-91E5-0B4340B7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473-7554-4363-8E1A-419AD4C8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2E8-A057-417D-B851-A4747957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D506-6C51-4BBD-A583-54F597DB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0B1-B9E8-4469-9555-6DE9332B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215-57B6-4A2F-9FAD-820D76C1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A64-54D6-404A-888D-58A98FD1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724E-EBB9-46B9-A383-B59AB4CC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228B-DF58-4ABC-9313-BE25AF1E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07B1-69B7-4E6C-9EC0-3E467FDD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5D25-8F75-4DE0-A1A1-D273E7F5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C6D-0AED-4ACA-A5C2-F2AEC58D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001D2-1C38-4795-9C20-B08383CF96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