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619827"/>
        <c:axId val="36956809"/>
      </c:barChart>
      <c:catAx>
        <c:axId val="296198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56809"/>
        <c:crosses val="autoZero"/>
        <c:auto val="1"/>
        <c:lblAlgn val="ctr"/>
        <c:lblOffset val="100"/>
        <c:noMultiLvlLbl val="0"/>
      </c:catAx>
      <c:valAx>
        <c:axId val="369568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198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EE2A-3DEB-4614-821C-9E70ECF5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019C-E799-49E4-8595-42F46BEE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B24B-65B3-4B04-8D7C-230EEB09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4E14-D9D1-4E99-AC04-8970B4A4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E312-4D79-4CDA-BC67-040263C6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39F5-1A3E-4D26-93D3-D058C402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D796-E7AE-443B-900F-38792F1D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F134-5076-4017-86BD-D878C2A8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5634-09C9-4E3A-9A4A-1E2CC216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8C57-00E4-466E-8ECB-288A4D75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4B51-3420-4024-B5B3-A65ED78A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EC2-F10A-4948-A93F-0DA074D2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EAF4B-8F07-4991-83B4-6AB86BDCD5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