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13330"/>
        <c:axId val="94157061"/>
      </c:barChart>
      <c:catAx>
        <c:axId val="2091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57061"/>
        <c:crosses val="autoZero"/>
        <c:auto val="1"/>
        <c:lblAlgn val="ctr"/>
        <c:lblOffset val="100"/>
        <c:noMultiLvlLbl val="0"/>
      </c:catAx>
      <c:valAx>
        <c:axId val="94157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1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7B5-4442-4B4E-9DBF-69F2BC96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A4C-A014-4C7C-9F29-037BEB1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324-6602-47A5-A13A-3E1469DF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FBA-53D1-490F-BF56-F86A87E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B5B-8A80-404D-A513-002A24D8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F9C-14E3-4E33-B620-47E12FA7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9A9-0997-481E-9AD4-64FB77B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DA1-3345-4F78-B393-0CCD45A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A79-178C-4670-96A6-25AEF331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42-088F-4472-96AD-536A9D1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ADF-B6F0-4497-8982-3669F37A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3E6-7B0F-4C7C-A59E-475EC9A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00F02-7D91-46C2-AA5C-D3188276A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