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07614"/>
        <c:axId val="76444266"/>
      </c:barChart>
      <c:catAx>
        <c:axId val="86807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44266"/>
        <c:crosses val="autoZero"/>
        <c:auto val="1"/>
        <c:lblAlgn val="ctr"/>
        <c:lblOffset val="100"/>
        <c:noMultiLvlLbl val="0"/>
      </c:catAx>
      <c:valAx>
        <c:axId val="76444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07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BAE6-EBA1-4C02-A76A-CE9FC309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6AF-F8E8-4870-AAAF-06ADCF09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F43-6848-4B79-878D-9158C3D9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7C7-25A3-4478-9D24-48E927C0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903-1132-40E5-9E22-3ED7A534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5AE-B1C4-4ED3-B444-C07FD798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5C6E-5509-4F47-8F15-3C67F0C6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FB0-DAB6-44F5-9135-FA6460AA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952-ADDE-41A1-B43D-0C35AE21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BC0-0993-481A-BC47-9868C0D7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C3C-0BD4-4D2D-A1D7-BE585F0D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07EB-864F-4764-AB97-5DF3272F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803D3-F43C-4319-806F-539E26E8F7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