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57253"/>
        <c:axId val="3631935"/>
      </c:barChart>
      <c:catAx>
        <c:axId val="54572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1935"/>
        <c:crosses val="autoZero"/>
        <c:auto val="1"/>
        <c:lblAlgn val="ctr"/>
        <c:lblOffset val="100"/>
        <c:noMultiLvlLbl val="0"/>
      </c:catAx>
      <c:valAx>
        <c:axId val="36319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72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FD42-8291-4D5E-8E0E-792F31315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6DC4-1637-494C-8392-66AC551A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EDFA-C053-4889-8DA7-A5FB409A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63A8-A9D6-49D3-902C-420A855E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F376-A92B-4106-80F9-75240082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196C-9951-4CF9-B822-8BB76DC9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3CF6-C885-43F5-847A-043E2A7D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CF11-800E-4054-81E0-421682E5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66A6-D1AF-494F-957F-5B174073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D6F6-C467-4DB0-A2E7-B48B3093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C1F3-58AE-45A0-A7EF-D8C2882B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8CBF-40A3-4E41-9071-EF052E14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8E485-31C9-4942-B990-A27CF5C5D2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