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42293"/>
        <c:axId val="70873759"/>
      </c:barChart>
      <c:catAx>
        <c:axId val="73642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73759"/>
        <c:crosses val="autoZero"/>
        <c:auto val="1"/>
        <c:lblAlgn val="ctr"/>
        <c:lblOffset val="100"/>
        <c:noMultiLvlLbl val="0"/>
      </c:catAx>
      <c:valAx>
        <c:axId val="70873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42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68C-2513-4707-B61C-51EACA43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49A-FF66-4C41-A5E2-E5433BEF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4F5-4EB6-4B46-BDA9-096F3629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817-6E31-4CF9-85C0-B300405E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3CF-D01F-4293-8733-9785A9F6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717-DF4B-4921-BF44-B85EB2D6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67D-D724-4693-9025-9D1F5413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485-3109-4DDD-A20F-B2B13833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0F5-0987-4BD9-BED7-893C2D36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45A-4593-490D-B6E5-7F9B444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BBB-BC04-437E-9086-60EC70A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BE9-AA21-4124-813B-5D841769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159BA-E715-4CDE-990C-391F8260E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