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38099"/>
        <c:axId val="23359720"/>
      </c:barChart>
      <c:catAx>
        <c:axId val="37538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59720"/>
        <c:crosses val="autoZero"/>
        <c:auto val="1"/>
        <c:lblAlgn val="ctr"/>
        <c:lblOffset val="100"/>
        <c:noMultiLvlLbl val="0"/>
      </c:catAx>
      <c:valAx>
        <c:axId val="23359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38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7D3-A6FB-496A-A024-38B0FC39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E93-A596-4548-BD51-DF14252C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CF0-38F3-4455-8C16-7440A6E5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889-389B-40E1-84A0-B1F4C420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20C-73E4-4F75-AF2D-635D3D15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37B-FD82-428E-98BD-1C0C7171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32F-1F9B-498E-883B-FCBB8EAF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24C-8269-4684-9DB8-22FEC96D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B78-C2EE-4B37-A5E4-C7A2C75F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0E6-4D75-47A4-B289-2A59C29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58B-9615-485F-A666-E5B9D5C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366-D6D4-4409-942D-9872E74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581EC-D91E-4020-8D6B-B4C52FB1D0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