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985895"/>
        <c:axId val="27899924"/>
      </c:barChart>
      <c:catAx>
        <c:axId val="849858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99924"/>
        <c:crosses val="autoZero"/>
        <c:auto val="1"/>
        <c:lblAlgn val="ctr"/>
        <c:lblOffset val="100"/>
        <c:noMultiLvlLbl val="0"/>
      </c:catAx>
      <c:valAx>
        <c:axId val="278999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858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CD39-0BAC-4AD5-8E15-5D01EB20B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EF25-065A-4A34-B167-0D28D014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2382-DB68-42CF-B012-F9CEBB52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4E25-A48A-4123-9C26-9BE1B658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55A5-959D-4D3C-BAC8-588CE23D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C873-060C-40BD-AA4A-CBE3923F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FE3F-A510-4EB9-82B1-3E9E075C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1D8D-9839-4CA2-8416-67CD8A91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3C6E-9D84-42FD-8124-84AA4FED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69C1-18C9-4BD8-9525-D76AB770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56DE-56CC-4021-B49A-D6E2E123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F02A-9990-4EF0-94F8-EB27CCF6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8D4B9-BCF9-49B5-A350-E353F09DC9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