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2800"/>
        <c:axId val="68330855"/>
      </c:barChart>
      <c:catAx>
        <c:axId val="2222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30855"/>
        <c:crosses val="autoZero"/>
        <c:auto val="1"/>
        <c:lblAlgn val="ctr"/>
        <c:lblOffset val="100"/>
        <c:noMultiLvlLbl val="0"/>
      </c:catAx>
      <c:valAx>
        <c:axId val="68330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2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28E-40D8-4DB8-B4AB-61AEE746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D1A-B86E-4075-80B1-18E8AA6B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390-4B8E-45DD-B558-9F2D1F6C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BFD-2A06-478A-9AE2-E1CE40AA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B3B-32A9-41EE-B73D-FD209E1A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BAF-E1D9-4DF3-8734-F9755852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37C-4CE1-4ACA-A41A-7007BBD0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0ED7-7DFC-4C6C-A28F-A6D8C521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DE85-D6AC-4BEC-BE11-E69AB8C6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719D-98E0-4436-A000-3C0B88AE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7B6D-4CC2-4207-BE33-F9C1B47C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E61-8E10-4478-BC15-41389C05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BD401-C72B-4524-8FFD-A3F2DE371A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