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025421"/>
        <c:axId val="80073012"/>
      </c:barChart>
      <c:catAx>
        <c:axId val="220254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073012"/>
        <c:crosses val="autoZero"/>
        <c:auto val="1"/>
        <c:lblAlgn val="ctr"/>
        <c:lblOffset val="100"/>
        <c:noMultiLvlLbl val="0"/>
      </c:catAx>
      <c:valAx>
        <c:axId val="8007301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254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C8C4-EA87-4F15-89B0-BCB108178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D8D2-B2A0-4931-B193-764F59E0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4146-C273-475E-BDEB-B3DC4D784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A9737-3EC8-42AF-BF12-352E89E2E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C085-E538-41E9-915E-34B5FCF84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8DD6-EBA2-47A3-9570-8B6C96CDB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6E9C-376E-4ABE-9A98-F65242F23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4891-61A4-427A-9FC3-983F52B11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4D83-E7B8-48A5-92FF-CE06DB2D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982B-4310-4C70-9099-D69163655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0AF2-1C90-4A1E-B5AC-B699F0FD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4870-25AA-43D5-8B89-E707950CB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BD3EA3-82F0-4088-A465-8E527E7CA5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