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2410"/>
        <c:axId val="46385446"/>
      </c:barChart>
      <c:catAx>
        <c:axId val="70724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85446"/>
        <c:crosses val="autoZero"/>
        <c:auto val="1"/>
        <c:lblAlgn val="ctr"/>
        <c:lblOffset val="100"/>
        <c:noMultiLvlLbl val="0"/>
      </c:catAx>
      <c:valAx>
        <c:axId val="46385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24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5B61-81E5-43AA-8CFC-36A04204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8F5-F6DC-4D0E-900F-0D787D09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129D-1FDC-4454-8B4C-9CC9FF6B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371-04A3-47F3-94F8-A2883FEC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55FE-006E-4DD2-922F-09A2FEBB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A474-CA25-4EAF-B214-A04C2CF2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5B44-64EE-45D4-B4E5-3135D36C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B46-6614-4BAD-BFDB-5BA711C9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8685-469A-41C0-A7A9-DA0F7900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8C36-48E8-463C-B3E7-B066D0E7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FA54-1DE0-4DB6-B94A-3691C720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432D-E95A-4280-B03F-B32371B2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898FE-6610-413A-B351-EAE0FB23B6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