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16308"/>
        <c:axId val="69395678"/>
      </c:barChart>
      <c:catAx>
        <c:axId val="826163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95678"/>
        <c:crosses val="autoZero"/>
        <c:auto val="1"/>
        <c:lblAlgn val="ctr"/>
        <c:lblOffset val="100"/>
        <c:noMultiLvlLbl val="0"/>
      </c:catAx>
      <c:valAx>
        <c:axId val="69395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163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C78-AA0E-495B-AAC4-2F4C7C68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0197-8C92-4A86-ACF2-101880A3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0FB4-BD85-4FE1-9A3E-86D84730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BB0-1323-4BB1-8DA1-D069523A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B8FA-7BCC-402C-B45E-D5EF3F9A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7D9-E8C4-438C-9767-0FE27B54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71A-42F4-425B-81E6-7B5113B9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D989-6B4D-4718-B4DD-4D23D120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F7C-53FD-472A-98E5-7A4F430A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5B3-8298-4DFB-B1AF-868E5F1A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382-30E6-432C-A0D9-EA89C3EE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690-DD47-4CB7-BBE2-B36507FB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F8775-26F2-4958-BA24-8FAA143813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