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13160"/>
        <c:axId val="25354003"/>
      </c:barChart>
      <c:catAx>
        <c:axId val="65113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54003"/>
        <c:crosses val="autoZero"/>
        <c:auto val="1"/>
        <c:lblAlgn val="ctr"/>
        <c:lblOffset val="100"/>
        <c:noMultiLvlLbl val="0"/>
      </c:catAx>
      <c:valAx>
        <c:axId val="25354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13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27A-F865-46A5-ACA8-63B4CA6C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313-9F30-4EFB-9A20-0B35B9CA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3D8-A94D-49D5-906A-A18C6543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1E8-2D96-4170-ADAA-A62A777D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BF2-B8B5-4F47-BDE7-2D1C6BBE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F89-BE9F-47A8-A655-75DD0778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F4E-A7DF-4CC6-80EB-52396FEC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35B-CC58-4C86-A167-044952D5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D89-B1A6-40AA-94FE-93DE826C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219-7A10-41B4-A008-66DDA86D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11B-7A1E-4C2F-9333-1B2F9F3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73D-B0B1-4D80-8C37-1B39BEF1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5FF56-EB4F-47E6-93DC-2DE7FCC893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