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67480"/>
        <c:axId val="39161086"/>
      </c:barChart>
      <c:catAx>
        <c:axId val="98567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1086"/>
        <c:crosses val="autoZero"/>
        <c:auto val="1"/>
        <c:lblAlgn val="ctr"/>
        <c:lblOffset val="100"/>
        <c:noMultiLvlLbl val="0"/>
      </c:catAx>
      <c:valAx>
        <c:axId val="39161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67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EC7-02A3-4C8E-9291-51256067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16D-E6DA-4526-AAF8-1BD30B5C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541-5583-452D-B24E-4F29EF1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D41-C618-4A57-BF87-0FC68295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E6C-296E-4C75-A518-EFE097BE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C2C-F301-4311-8F70-2C9D55B7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7A6-F3B9-4122-A9E7-6083094B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545-A991-4528-9F35-11DA3B64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ED5-80C8-4CFC-939B-467C7B1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F25-55D7-4E7E-B325-332A1FA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424-1D1B-4C72-B8B6-27C9035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7F1-F162-487D-81AD-A180F73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8C93E-973C-4D95-BEB7-B3F42C46C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