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86002"/>
        <c:axId val="31881949"/>
      </c:barChart>
      <c:catAx>
        <c:axId val="672860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81949"/>
        <c:crosses val="autoZero"/>
        <c:auto val="1"/>
        <c:lblAlgn val="ctr"/>
        <c:lblOffset val="100"/>
        <c:noMultiLvlLbl val="0"/>
      </c:catAx>
      <c:valAx>
        <c:axId val="31881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860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849-6A30-4278-AD51-4BFD4788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4188-9E73-4566-AF87-4504EF0E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ABB-D399-4A3B-A5BE-59472932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F67-460D-446F-927E-D1155E39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7AC0-509B-4660-ACFA-35A2B52A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21A0-F97E-47A9-92AD-B6E21DB0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7B7-E69C-4145-9220-A398FFE2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66F-C25B-4B3A-9140-B6D280EF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9DCD-B856-4E45-B5F5-9BAC1DC3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DDF-5593-4552-B1DA-4175ED5A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864E-9364-470C-A834-61AA751A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28DB-6951-4346-8B8F-50407844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F2841-A008-4E09-A46E-ACD8AF2EBA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